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54FA-9BA9-4476-9861-92183F56B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65AA-F1A5-4E2F-AB05-E92A3BA7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8490-B244-4701-A3D9-B5E56837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84CC-FE60-4336-B1DF-5855757D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06F0-6DDD-44F1-9675-6A9197EA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9427-0AB7-4B22-9CD5-231697FE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B633-B918-4D43-A5D7-450C5F85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585E-AACE-4F17-94E7-5252F466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1E1D-C5DB-4B25-897A-E9A72A4C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F494-0D41-4847-AA02-B70FC2A0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1136-43A3-4A8C-ADED-B6B138BA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03CD-A878-4FEF-938C-7378F683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9BEA-7C3C-4BA0-BDFF-3153E93C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2B48-CB57-4109-AFB1-9513400D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6244-4E78-4274-A043-41086E59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4901-D01A-4ACC-A822-6E82D4B3A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327B-65B5-4A4A-8350-D7720292D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8E19-2568-4588-8C64-01EB32C3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CA08-4A42-44B3-83A8-69E7BF69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D3D7-85F4-4673-BF2A-08B4C83C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C010-F955-44DE-A303-F4070774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1AF1-C061-4C55-94E9-3E524C7C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EBDE-5F0A-4489-93E1-0C756DB3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191E-811E-42B2-B942-9EC4CEB2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B51B-522C-4E67-84DA-2D0DE128D7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C230-D1BF-4E92-8F31-80B0E55F82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. 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assignment on ch.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st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OL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aeologist Leonard wooley set out in 1922 to look for Ur a city mentioned in the bible, Ur was the origenal home of Abraham the father of the hebrew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bble:Gobble::Sip: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tball:Gridiron::baseball: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omework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h.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05:18:54Z</dcterms:created>
  <dc:creator>Angie</dc:creator>
  <dc:description/>
  <dc:language>en-US</dc:language>
  <cp:lastModifiedBy>Angie McCall</cp:lastModifiedBy>
  <dcterms:modified xsi:type="dcterms:W3CDTF">2011-09-28T13:00:22Z</dcterms:modified>
  <cp:revision>3</cp:revision>
  <dc:subject/>
  <dc:title>English</dc:title>
</cp:coreProperties>
</file>